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BBD-84B3-4D1A-9B73-F90CEA4F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C80-92AA-4485-9BD4-078AB2CD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F49-A347-414C-8FFF-0864204C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115-DDDF-4BB5-9711-A46C4B48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D2E-CB81-47EF-8C77-50E3691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A9F-BDA1-4A1E-BDF6-4D1F974F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F12-532F-468C-9B88-6BEDCB38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00B-13DC-486B-AEAC-4854970B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737-C0A0-4B38-902D-2A674F1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ADA-91B4-418B-8F3D-D7F4F1F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0A8-4B8D-4E0A-8088-54CEE5AE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678-5368-47A3-9DA1-AEFD74C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C696-EC2E-4B7F-A7A9-0E222E4868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18000" y="1628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86760" y="2133720"/>
            <a:ext cx="194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8" descr=""/>
          <p:cNvPicPr/>
          <p:nvPr/>
        </p:nvPicPr>
        <p:blipFill>
          <a:blip r:embed="rId2"/>
          <a:stretch/>
        </p:blipFill>
        <p:spPr>
          <a:xfrm>
            <a:off x="2682720" y="2620800"/>
            <a:ext cx="4046760" cy="1665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238000" y="6095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250920" y="134136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днос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MR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смањују на 40%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са је груба и р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жа је сува и жућкаста (каротенем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хладноћа се слабо подн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љење је успорено, памћење је ло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нтални симптоми - „микседемско лудил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иво холестерола у плазми је повећ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кседем (види сли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432600" y="692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s://jelenalakovic.files.wordpress.com/2014/04/4.jpg"/>
          <p:cNvPicPr/>
          <p:nvPr/>
        </p:nvPicPr>
        <p:blipFill>
          <a:blip r:embed="rId1"/>
          <a:srcRect l="14671" t="6998" r="0" b="15000"/>
          <a:stretch/>
        </p:blipFill>
        <p:spPr>
          <a:xfrm>
            <a:off x="4140360" y="3573360"/>
            <a:ext cx="259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504880" y="692280"/>
            <a:ext cx="467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Конгенитални хипотиреоидиз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4752720" cy="244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179280" y="141300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деца која су хипотиреоидна од рођења имају кретенизам патуљастог су раста и ментално су зао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конгенитални хипотиреоидизам је један од најчешћих узрока менталне ретардације који се може превенир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ако се започне са лечењем након рођења, прогноза даљег нормалног раста и развоја је добра, а ментална ретардација може да се избег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yriadPro-Regular"/>
              </a:rPr>
              <a:t>из овог разлога се врши скрининг конгениталног хипотиреоидизма, који је постао рутина </a:t>
            </a:r>
            <a:r>
              <a:rPr b="0" lang="sr-RS" sz="1800" spc="-1" strike="noStrike">
                <a:solidFill>
                  <a:srgbClr val="000000"/>
                </a:solidFill>
                <a:latin typeface="MyriadPro-Regular"/>
              </a:rPr>
              <a:t>у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1628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ечење хипотиреоидизма зависи од механизама који су дов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 његовог наст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Јодна дефицијенција може бити отклоњена додавањем ј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 исхрану (јодирање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д конгениталног хипотиреоидизма даје се лево-тироксин – синтетичка форма тиреоидног хормона Т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ажно је да се са лечењем започне одмах по рођењу, како би се смањили дугорочни негативни еф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1" descr=""/>
          <p:cNvPicPr/>
          <p:nvPr/>
        </p:nvPicPr>
        <p:blipFill>
          <a:blip r:embed="rId1"/>
          <a:stretch/>
        </p:blipFill>
        <p:spPr>
          <a:xfrm>
            <a:off x="2212920" y="2670120"/>
            <a:ext cx="5046840" cy="82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50920" y="907920"/>
            <a:ext cx="806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јчешћи узрочник је Гравесова болест који се јавља у 60–80% случај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о је аутоимунска болест, чешћа код жена, код којих антитела 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цепторе стимулишу рецеп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о доводи до секреције Т3 и Т4 и последично до увећања тиреоидне жлезде (струм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ј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плазми сни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је и друга антитиреоидна антитела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g-at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реоглобулинска антитела)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PO-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тела усмерена на тиреоидну пероскидаз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570840" y="333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24000" y="1413000"/>
            <a:ext cx="8065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рв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битак телесне теж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перфа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одношење врућ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ћан пулсни прити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пла, мекана 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зофтал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936520" y="62064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имптоми и клиничка с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www.cardionet.org/cardionetzdravlje/casopis/slike/bolesti/118-2.jpg"/>
          <p:cNvPicPr/>
          <p:nvPr/>
        </p:nvPicPr>
        <p:blipFill>
          <a:blip r:embed="rId1"/>
          <a:stretch/>
        </p:blipFill>
        <p:spPr>
          <a:xfrm>
            <a:off x="1258920" y="4221000"/>
            <a:ext cx="312408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dijetaplus.com/wp-content/uploads/2016/01/bazedovljeva-bolest.jpg"/>
          <p:cNvPicPr/>
          <p:nvPr/>
        </p:nvPicPr>
        <p:blipFill>
          <a:blip r:embed="rId2"/>
          <a:stretch/>
        </p:blipFill>
        <p:spPr>
          <a:xfrm>
            <a:off x="4516560" y="3860640"/>
            <a:ext cx="42116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155736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и симптоми хипертиреоидизма могу да се лече групом састојака који су слични тиоуреи, која инхибише јодинацију монојодтирозина и блок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ју вез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јчешће коришћени препарати су пропилтиоурацил и метимаз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ким случајевима, хипертиреоидизам може да се лечи радиоактивним јодом који се акумулира у жлезди и делимично је уништ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руршко лечење се такође често примењује нарочито када је жлезда толико увећана да проузрокује отежано гутање и дис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804000" y="0"/>
            <a:ext cx="270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3352680" y="2670120"/>
            <a:ext cx="2773440" cy="82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468360" y="90792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озниц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рућ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гњ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рекс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иперпирекс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јстарији и најпознатији знак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арактерише се повише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ормал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асп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Механизам подизања телесне темепрату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терморегулациони механизми се понашају као да 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ешени да телесну температуру одржавају на виш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воу него што је то нормал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„као да је термост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ешен’’ на нови ниво изнад 37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2. 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ператур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цептори тада обавештавају да је стварна температу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ла испод нивоа „подешености’’, па се активира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и који повећавају темп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ично се јав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ећај хладноће изазван вазоконстрикцијом у кожи, 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екад и дрхтање миш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https://corticalchauvinism.files.wordpress.com/2015/07/child-sick-fever-jpg.jpg"/>
          <p:cNvPicPr/>
          <p:nvPr/>
        </p:nvPicPr>
        <p:blipFill>
          <a:blip r:embed="rId1"/>
          <a:stretch/>
        </p:blipFill>
        <p:spPr>
          <a:xfrm>
            <a:off x="4284720" y="4076640"/>
            <a:ext cx="4626000" cy="26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3715920" y="4046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ОПШТЕ ОДЛ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3202920" y="69228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АТОГЕНЕЗА ГРОЗ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30578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4076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да је ректална температура дуже време изнад 41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могу настати трајна оштећења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расту температуре изнад 4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развија се топлотни удар и може настати см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788640" y="36450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КОМПЛ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355640" y="6206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ЗНАЧА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611280" y="119700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хибиција раста и размножавања многих микроорганиза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ћано је стварање анти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 открића антибиотика лечење неуросифилиса се вршило изазивањем грозниц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пертермија помаже код инфекција антраксом, пнеумококне пнеумоније, лепре и различитих гљивичних, рикецијалних и вирусних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пертермија успорава раст неких ту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24000" y="1700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биотици код бактеријских инфе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пиретиц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арацетамол (ацетаминоф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SAIL (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бупрофен, Напрко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0000"/>
                </a:solidFill>
                <a:latin typeface="Calibri"/>
              </a:rPr>
              <a:t>* Деци и адолесцентнима се не саветује употреба Аспирина због повезаности са појавом Рејевог синдр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1" descr=""/>
          <p:cNvPicPr/>
          <p:nvPr/>
        </p:nvPicPr>
        <p:blipFill>
          <a:blip r:embed="rId1"/>
          <a:stretch/>
        </p:blipFill>
        <p:spPr>
          <a:xfrm>
            <a:off x="2346480" y="2670120"/>
            <a:ext cx="4786200" cy="82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427200" y="620640"/>
            <a:ext cx="137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ОД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50920" y="134136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арни хипотиреоидизам (бројне болести тиреоидне жлез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ундарни хипотиреоидизам (болести хипофиз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цијарни хипотиреоидизам (болести хипоталалмус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4751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250920" y="134136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а се преузимање јода смањи испод 50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, синтеза тиреоидних хормона је неадекватна и секреција о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о резултат повећања 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SH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реоцити хипертрофишу, и настаје гушавост услед недостатка ј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јава ендемске гушавости је смањена од када постоји пракса јодирања кухињске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 могу да инхибирају тиреоидну функцију (блокирајући органско везивање ј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од инхибира тиреоидну функцију под одређеним околностима - велике дозе јода спречавају органско везивање јод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lff-Chaikoff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в ефек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61080" y="62064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ТОГЕНЕТСК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Vladimir Zivkovic</cp:lastModifiedBy>
  <dcterms:modified xsi:type="dcterms:W3CDTF">2016-05-10T14:50:30Z</dcterms:modified>
  <cp:revision>64</cp:revision>
  <dc:subject/>
  <dc:title>ИНТЕГРИСАНЕ АКАДЕМСКЕ СТУДИЈЕ ФАРМАЦИЈЕ  Г04 – Медицинска хемија и дизајн лекова 2</dc:title>
</cp:coreProperties>
</file>